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CDC8-3E9D-4014-8CE5-2817240AEE0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2405-3A45-4CA7-9C70-C6EADFB6A8A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0891-40A2-44FB-AFFB-1E28B4E7E33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99CB-9AC2-4080-BBFA-5BFC9E2821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801B-DF83-42AB-962F-3FF793C7553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99D8-B3A9-4F23-8866-2FFD8D5FFD7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32BA-FF4B-4695-B740-72C7EE9510E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4ABE-D08B-45BB-ADB9-1D72943085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BE9A-CC2C-45E5-B291-A0DB9F01E2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0B83-A9CB-446B-8989-9591C8D2C2C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5499-D5DE-4523-A2DD-EA9CF79C9C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AC90-7D42-449F-A9B4-63BA1F937FA5}" type="slidenum">
              <a:rPr b="0" lang="ko-K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0137-F35A-4725-8D73-8383064AC19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3F05-AFB0-4B0F-B0FC-EBB90787AD4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13A7-3FC2-433F-AC88-DE8DFD237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A980-8B60-49BC-AC43-EFDDA54CE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06B-F721-4AAA-A76A-E2B73759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BFD-356C-4A47-AA8D-E8ABC432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CDA-A451-47FE-8C4C-F248A6EB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C4C-B104-450F-B36A-B856823E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C5D-AC40-42BC-B733-4CDBFB6B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463-76B8-4C2B-90E2-F76F5AB0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310-6850-4BE5-9BE6-2C440093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E6C-F095-493A-A279-F6E7E493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8B0-515A-4AD1-9FF6-B8AF3934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C93-858F-45ED-85B8-8808E5FE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E7B-54EB-45A1-A234-C46AE669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82B-F921-4920-859E-A5FE940B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4516-611F-4850-826A-6CB050107F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1052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3" descr=""/>
          <p:cNvPicPr/>
          <p:nvPr/>
        </p:nvPicPr>
        <p:blipFill>
          <a:blip r:embed="rId1"/>
          <a:stretch/>
        </p:blipFill>
        <p:spPr>
          <a:xfrm>
            <a:off x="355680" y="506520"/>
            <a:ext cx="8432640" cy="6235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23760" y="1593720"/>
            <a:ext cx="9096480" cy="3670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"/>
          <p:cNvPicPr/>
          <p:nvPr/>
        </p:nvPicPr>
        <p:blipFill>
          <a:blip r:embed="rId1"/>
          <a:stretch/>
        </p:blipFill>
        <p:spPr>
          <a:xfrm>
            <a:off x="279360" y="1844640"/>
            <a:ext cx="858528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"/>
          <p:cNvPicPr/>
          <p:nvPr/>
        </p:nvPicPr>
        <p:blipFill>
          <a:blip r:embed="rId1"/>
          <a:stretch/>
        </p:blipFill>
        <p:spPr>
          <a:xfrm>
            <a:off x="407880" y="1073160"/>
            <a:ext cx="832824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3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834240" cy="44258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407880" y="1069920"/>
            <a:ext cx="832824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"/>
          <p:cNvPicPr/>
          <p:nvPr/>
        </p:nvPicPr>
        <p:blipFill>
          <a:blip r:embed="rId1"/>
          <a:stretch/>
        </p:blipFill>
        <p:spPr>
          <a:xfrm>
            <a:off x="36360" y="1236600"/>
            <a:ext cx="907128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12:06:56Z</dcterms:created>
  <dc:creator>shentong6903@163.com</dc:creator>
  <dc:description/>
  <dc:language>en-US</dc:language>
  <cp:lastModifiedBy>Joanna</cp:lastModifiedBy>
  <cp:lastPrinted>2017-05-02T00:32:14Z</cp:lastPrinted>
  <dcterms:modified xsi:type="dcterms:W3CDTF">2019-05-16T01:46:35Z</dcterms:modified>
  <cp:revision>1199</cp:revision>
  <dc:subject/>
  <dc:title>幻灯片 1</dc:title>
</cp:coreProperties>
</file>